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260-289B-4471-9B8B-BE8D08AF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9B13-A0D9-4948-B6B0-849B614D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00CD-8DD4-45F5-8B8C-4505E8D3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C8F-E5EA-4302-BC16-3B1A01A4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5073-E219-49B6-B6E6-4EBCADFF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3415-750E-4D0A-97C3-C4A87ECF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DA63-0774-4493-B2E3-8426702A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C190-E31B-4D59-B3C5-99D1BF0A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CD6D-FA82-43A1-A279-9FAEAB92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6976-09B5-4C04-88F0-2CDACC0F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C3C4-1C56-46ED-8212-29169D00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7C7D-1436-4136-AA50-2A52D342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3A51-9176-49A9-B198-D8B9DE7D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E574-1767-4EA4-96AE-056E0AD0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5F5D-37BA-4519-986B-2F1A1F69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F9C7-5E6D-476C-AE33-6044EC77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30D8-886F-4C93-8F3F-5A36D42F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81B-7E19-4161-AFBE-A9AFBD5C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0647-E1EF-4F00-AC4F-5F8CF213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86F-5CD9-411A-B8BC-884A6988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C27A-2DEE-45A8-AE0E-27E0F435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7DC5-3AD3-47C1-8425-18C8681C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AEF3-2150-4F60-B68D-2B8D7AE7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1AC2-35AC-4AC2-B490-A9ACDEFC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3F74-9A77-4CF6-8A16-FE02E4AB3D1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7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5FA2-3CF3-499C-A625-050EB75A9F19}" type="slidenum">
              <a:rPr b="0" lang="pl-PL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333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700" spc="-1" strike="noStrike">
                <a:solidFill>
                  <a:srgbClr val="ffffcc"/>
                </a:solidFill>
                <a:latin typeface="Arial"/>
              </a:rPr>
              <a:t>ISTRUKCJA OBSŁUGI kuchenki mikrofalowej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10. Po wyjęciu żywności wyłącz kuchenkę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339640" y="3284280"/>
            <a:ext cx="259236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Picture 5" descr="cb58c2cf62002c20fdf5109141d191b3"/>
          <p:cNvPicPr/>
          <p:nvPr/>
        </p:nvPicPr>
        <p:blipFill>
          <a:blip r:embed="rId1"/>
          <a:stretch/>
        </p:blipFill>
        <p:spPr>
          <a:xfrm>
            <a:off x="1258920" y="2276640"/>
            <a:ext cx="67197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11. Gdy po podgrzaniu żywności kuchenka będzie brudna </a:t>
            </a:r>
            <a:br>
              <a:rPr sz="4000"/>
            </a:b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przetrzyj ją od środka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Picture 5" descr="9979"/>
          <p:cNvPicPr/>
          <p:nvPr/>
        </p:nvPicPr>
        <p:blipFill>
          <a:blip r:embed="rId1"/>
          <a:stretch/>
        </p:blipFill>
        <p:spPr>
          <a:xfrm>
            <a:off x="684360" y="3860640"/>
            <a:ext cx="33573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Arial"/>
              </a:rPr>
              <a:t>12. Moja opinia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Verdana"/>
              </a:rPr>
              <a:t>Uważam, że kuchenka mikrofalowa  jest bardzo przydatna w kuchni -ponieważ dzięki niej można szybko przygotować ciepły posiłek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rostokąt 1"/>
          <p:cNvSpPr/>
          <p:nvPr/>
        </p:nvSpPr>
        <p:spPr>
          <a:xfrm>
            <a:off x="2292480" y="53737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eaeaea"/>
                </a:solidFill>
                <a:latin typeface="Verdana"/>
              </a:rPr>
              <a:t>Dziękuję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Arial"/>
              </a:rPr>
              <a:t>To jest kuchenka mikrofalow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19640" y="2420640"/>
            <a:ext cx="158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5" descr="5002-1"/>
          <p:cNvPicPr/>
          <p:nvPr/>
        </p:nvPicPr>
        <p:blipFill>
          <a:blip r:embed="rId1"/>
          <a:stretch/>
        </p:blipFill>
        <p:spPr>
          <a:xfrm>
            <a:off x="1692360" y="1728720"/>
            <a:ext cx="59752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Arial"/>
              </a:rPr>
              <a:t>dawniej i dziś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10492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Verdana"/>
              </a:rPr>
              <a:t>Kiedyś kuchenka mikrofalowa była wyznacznikiem luksusu i bogactwa, dziś znaczna część gospodarstw domowych posiada kuchenkę mikrofalową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Arial"/>
              </a:rPr>
              <a:t>na początek - ostrzeżeni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24000" y="1599840"/>
            <a:ext cx="986472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u="sng">
                <a:solidFill>
                  <a:srgbClr val="ffff29"/>
                </a:solidFill>
                <a:uFillTx/>
                <a:latin typeface="Bodoni MT"/>
              </a:rPr>
              <a:t>PROMIENIOWANIE MIKROFALOWE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ależy unikać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Bodoni MT"/>
              </a:rPr>
              <a:t>NAPROMIENIOWANI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Bodoni MT"/>
              </a:rPr>
              <a:t>Z GENERATORA MIKROFALOWEGO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Kolejne kroki jak należy postępować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Picture 5" descr="ANd9GcTJv3ppg_l4eJpYsktYqzEpELdm8h8_3mONArUmndcXi5xvOD060MSLUvSkjg"/>
          <p:cNvPicPr/>
          <p:nvPr/>
        </p:nvPicPr>
        <p:blipFill>
          <a:blip r:embed="rId1"/>
          <a:stretch/>
        </p:blipFill>
        <p:spPr>
          <a:xfrm>
            <a:off x="2987640" y="3402000"/>
            <a:ext cx="3456000" cy="31384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709560" y="1773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1. Włożyć wtyczkę do gniazdka elektrycznego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2. Po włożeniu żywności do odpowiedniego naczynia ustaw na </a:t>
            </a:r>
            <a:r>
              <a:rPr b="0" lang="pl-PL" sz="4000" spc="-1" strike="noStrike" u="sng">
                <a:solidFill>
                  <a:srgbClr val="ffffcc"/>
                </a:solidFill>
                <a:uFillTx/>
                <a:latin typeface="Arial"/>
              </a:rPr>
              <a:t>szklanym</a:t>
            </a: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 talerzu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6" descr="zdj_5f25b58075d0a9b2438b74f6b349bb97"/>
          <p:cNvPicPr/>
          <p:nvPr/>
        </p:nvPicPr>
        <p:blipFill>
          <a:blip r:embed="rId1"/>
          <a:stretch/>
        </p:blipFill>
        <p:spPr>
          <a:xfrm>
            <a:off x="1619280" y="3059280"/>
            <a:ext cx="568944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3. Przy użyciu pokręteł regulacji możemy ustawić żądaną moc mikrofal i czas 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700000" y="2852280"/>
            <a:ext cx="20876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5" descr="f06"/>
          <p:cNvPicPr/>
          <p:nvPr/>
        </p:nvPicPr>
        <p:blipFill>
          <a:blip r:embed="rId1"/>
          <a:stretch/>
        </p:blipFill>
        <p:spPr>
          <a:xfrm>
            <a:off x="1979640" y="2565360"/>
            <a:ext cx="46483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4. Kuchenka rozpoczyna pracę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Verdana"/>
              </a:rPr>
              <a:t>Pamiętaj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Verdana"/>
              </a:rPr>
              <a:t>nie wolno stać przy włączonej mikrofalówc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5" descr="656882MD11471Gris"/>
          <p:cNvPicPr/>
          <p:nvPr/>
        </p:nvPicPr>
        <p:blipFill>
          <a:blip r:embed="rId1"/>
          <a:stretch/>
        </p:blipFill>
        <p:spPr>
          <a:xfrm>
            <a:off x="395280" y="3284640"/>
            <a:ext cx="4905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32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5. Kuchenka wyłączy się automatycznie i wtedy można wyjąć żywność z kuchenki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76720" y="2565360"/>
            <a:ext cx="15112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5" descr="piekarnik_parowy_Electrolux_aranzacja_2"/>
          <p:cNvPicPr/>
          <p:nvPr/>
        </p:nvPicPr>
        <p:blipFill>
          <a:blip r:embed="rId1"/>
          <a:stretch/>
        </p:blipFill>
        <p:spPr>
          <a:xfrm>
            <a:off x="1619280" y="2109960"/>
            <a:ext cx="56167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6:08:32Z</dcterms:created>
  <dc:creator>Dorota</dc:creator>
  <dc:description/>
  <dc:language>en-US</dc:language>
  <cp:lastModifiedBy>Dorota</cp:lastModifiedBy>
  <dcterms:modified xsi:type="dcterms:W3CDTF">2013-08-14T08:49:35Z</dcterms:modified>
  <cp:revision>7</cp:revision>
  <dc:subject/>
  <dc:title>Instrukcja obsługi mikrofalówki</dc:title>
</cp:coreProperties>
</file>